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0050-C921-4420-88E4-3088AE1CA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C206-AC1F-4FE1-8E26-ECC7B8009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3285-0C52-4140-9ED2-07A8DE0AF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&gt;12.5 or &l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causes visible destruction of, or irreversible alterations in, living tissue by chemical action at the point of contact.  This term does not refer to action on inanimate surfa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material that will corrode steel at a rate of 0.25 in.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21FA-34E1-4807-9828-728CE7EBF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29B0-CBB2-4ECB-8B27-9B08CE9BA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5960-8EFF-40B6-B9B6-531E6E873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BB35-E144-46FF-9E2C-F01A1FB84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DAA3-3115-4D27-9270-F0D8AC29C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5839-4CAB-4D1C-B2E3-BC952EDE0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reacts with water to release gas that is either flammable or presents a health 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tassium me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1733-C44F-4705-B9C7-D2805AF2D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10BB-D1E7-4F6B-8619-C2A60D49A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BF0F-0EB1-4ECA-9F8F-B95989382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2243-D2A9-487F-BA42-FD91ABB68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C1AF-660F-45C5-9499-9F37481C2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73E5-D6F4-4CFE-89DB-BE781D30B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5E61-A190-40DA-93AB-6F8670E88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6506-B708-4EE3-BD73-B07403860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2CB1-21C2-446C-B90C-D7C78CAC4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A128-FBFD-414F-BE00-D8374FFCE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0535-0B2C-44A0-A740-C362A1ACF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B664-C1B7-40F2-93A3-FD385B9C2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4EC6-A8A3-4C7E-8F9C-CCEAD62C6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EF75-1D46-40D9-B96E-0B481550C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0556-14B9-4C3D-B19B-873941CE8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9AAD-D833-47F4-AB1A-5884E2750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8827-78A9-4708-A25C-ABFA82FEA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B39B-2CB3-4E21-A15F-EA6A67D81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1436-D4CF-4DE0-87FB-096E96452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D0CC-95F0-4FB2-905C-BC75D0CEA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462D-4523-4EA5-96E0-48D5960A8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CA18-3FAB-46A9-A7E8-2DFEEADC8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C1E9-8FCD-48B4-AC96-6604509E0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2704-DF9F-41FD-83AF-FD706CA60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9DE0-BB66-437A-B9D6-669EDD9C3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point below 2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mbient temp. and pres. forms a range of flammable mixtures wider than 12% by volume regardless of 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ble to cause fire through friction, absorption of moisture, spontaneous chemical change, or which can be ignited readily burning at a rate of greater than 1/10 in. per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CF1B-8503-4D7D-80DA-DF74E8DF2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6128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6"/>
          <p:cNvGrpSpPr/>
          <p:nvPr/>
        </p:nvGrpSpPr>
        <p:grpSpPr>
          <a:xfrm>
            <a:off x="1576440" y="1631880"/>
            <a:ext cx="7567560" cy="209520"/>
            <a:chOff x="1576440" y="1631880"/>
            <a:chExt cx="7567560" cy="209520"/>
          </a:xfrm>
        </p:grpSpPr>
        <p:grpSp>
          <p:nvGrpSpPr>
            <p:cNvPr id="6" name="Group 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7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Line 22"/>
            <p:cNvSpPr/>
            <p:nvPr/>
          </p:nvSpPr>
          <p:spPr>
            <a:xfrm>
              <a:off x="1585800" y="180036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3"/>
            <p:cNvSpPr/>
            <p:nvPr/>
          </p:nvSpPr>
          <p:spPr>
            <a:xfrm>
              <a:off x="1587600" y="175248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1576440" y="165276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Picture 28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1576440" y="3200400"/>
            <a:ext cx="7567560" cy="209520"/>
            <a:chOff x="1576440" y="3200400"/>
            <a:chExt cx="7567560" cy="209520"/>
          </a:xfrm>
        </p:grpSpPr>
        <p:grpSp>
          <p:nvGrpSpPr>
            <p:cNvPr id="55" name="Group 41"/>
            <p:cNvGrpSpPr/>
            <p:nvPr/>
          </p:nvGrpSpPr>
          <p:grpSpPr>
            <a:xfrm>
              <a:off x="1576440" y="3200400"/>
              <a:ext cx="7566120" cy="189000"/>
              <a:chOff x="1576440" y="3200400"/>
              <a:chExt cx="7566120" cy="189000"/>
            </a:xfrm>
          </p:grpSpPr>
          <p:sp>
            <p:nvSpPr>
              <p:cNvPr id="56" name="Rectangle 42"/>
              <p:cNvSpPr/>
              <p:nvPr/>
            </p:nvSpPr>
            <p:spPr>
              <a:xfrm>
                <a:off x="1581120" y="321156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43"/>
              <p:cNvSpPr/>
              <p:nvPr/>
            </p:nvSpPr>
            <p:spPr>
              <a:xfrm>
                <a:off x="1585800" y="33861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44"/>
              <p:cNvSpPr/>
              <p:nvPr/>
            </p:nvSpPr>
            <p:spPr>
              <a:xfrm>
                <a:off x="1585800" y="334800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5"/>
              <p:cNvSpPr/>
              <p:nvPr/>
            </p:nvSpPr>
            <p:spPr>
              <a:xfrm>
                <a:off x="1585800" y="330048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46"/>
              <p:cNvSpPr/>
              <p:nvPr/>
            </p:nvSpPr>
            <p:spPr>
              <a:xfrm>
                <a:off x="1585800" y="324648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7"/>
              <p:cNvSpPr/>
              <p:nvPr/>
            </p:nvSpPr>
            <p:spPr>
              <a:xfrm>
                <a:off x="1576440" y="32004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48"/>
            <p:cNvSpPr/>
            <p:nvPr/>
          </p:nvSpPr>
          <p:spPr>
            <a:xfrm>
              <a:off x="1585800" y="336888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9"/>
            <p:cNvSpPr/>
            <p:nvPr/>
          </p:nvSpPr>
          <p:spPr>
            <a:xfrm>
              <a:off x="1587600" y="332100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0"/>
            <p:cNvSpPr/>
            <p:nvPr/>
          </p:nvSpPr>
          <p:spPr>
            <a:xfrm>
              <a:off x="1576440" y="322128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" name="Picture 53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7238520" y="640080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hemlabs.uoregon.edu/Safety/map/nfpadiamond.map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lpi.com/msds/ref/acid.html" TargetMode="External"/><Relationship Id="rId2" Type="http://schemas.openxmlformats.org/officeDocument/2006/relationships/hyperlink" Target="http://www.ilpi.com/msds/ref/corrosive.html" TargetMode="External"/><Relationship Id="rId3" Type="http://schemas.openxmlformats.org/officeDocument/2006/relationships/hyperlink" Target="http://www.ilpi.com/msds/ref/ph.html" TargetMode="External"/><Relationship Id="rId4" Type="http://schemas.openxmlformats.org/officeDocument/2006/relationships/hyperlink" Target="http://www.ilpi.com/msds/ref/base.html" TargetMode="External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regonstate.edu/research/Images/hazbio.gif&amp;imgrefurl=http://oregonstate.edu/research/1old/News/04sumnews.html&amp;h=487&amp;w=512&amp;sz=20&amp;tbnid=FltTi8FN-Ad_mM:&amp;tbnh=125&amp;tbnw=131&amp;prev=/images%3Fq%3Dbiohazard%2Bsymbol&amp;start=2&amp;ei=JvykRbK7PJC4iwHQia3vBQ&amp;sig2=t0XsrG4VlVXycbDfZtAbXg&amp;sa=X&amp;oi=images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eachnet.ie/dkeenahan/2004/Images/Radiation%2520symbol%25202%2520J.jpg&amp;imgrefurl=http://www.teachnet.ie/dkeenahan/2004/page41.html&amp;h=247&amp;w=264&amp;sz=9&amp;tbnid=q58_UDK7Pu2bmM:&amp;tbnh=105&amp;tbnw=112&amp;prev=/images%3Fq%3Dradiation%2Bsymbol&amp;start=3&amp;ei=TPykRbn-FZDYigHXmYDlBQ&amp;sig2=GYgQdEHQ1k9KbQmSwgUWGA&amp;sa=X&amp;oi=images&amp;ct=image&amp;cd=3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globescientific.com/globe_needle_holder.gif&amp;imgrefurl=http://www.globescientific.com/cpage28a-needle.html&amp;h=941&amp;w=1456&amp;sz=508&amp;hl=en&amp;start=1&amp;tbnid=kGBaDivi3wY9iM:&amp;tbnh=97&amp;tbnw=150&amp;prev=/images%3Fq%3Dneedle%26svnum%3D10%26hl%3Den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www.worldofmolecules.com/solvents/benzene.gif&amp;imgrefurl=http://www.worldofmolecules.com/solvents/benzene.htm&amp;h=242&amp;w=251&amp;sz=6&amp;hl=en&amp;start=1&amp;tbnid=lwc48qHliqSHtM:&amp;tbnh=107&amp;tbnw=111&amp;prev=/images%3Fq%3Dbenzene%26svnum%3D10%26hl%3Den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rtchive.com/artchive/g/goodman/goodman_night_burn.jpg&amp;imgrefurl=http://artchive.com/artchive/G/goodman/goodman_night_burn.jpg.html&amp;h=835&amp;w=630&amp;sz=80&amp;hl=en&amp;sig2=g0CPj7-ox-t5_T8wxyb9ag&amp;start=3&amp;tbnid=nyG46gQzNWIVmM:&amp;tbnh=144&amp;tbnw=109&amp;ei=N_2kRebsCYvIiwG1kun8BQ&amp;prev=/images%3Fq%3Dburn%26svnum%3D10%26hl%3Den%26lr%3D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oregonstate.edu/~brookhac/uploaded_images/tripping-729005.jpg&amp;imgrefurl=http://oregonstate.edu/~brookhac/2005_12_01_theblueflower_archive.html&amp;h=285&amp;w=400&amp;sz=12&amp;hl=en&amp;sig2=X1fgOb4GRvwLzC4K1ApKpw&amp;start=1&amp;tbnid=vX4HxNFeWQox7M:&amp;tbnh=88&amp;tbnw=124&amp;ei=U_2kRZHkJc24igH9pYjgBQ&amp;prev=/images%3Fq%3Dtripping%26svnum%3D10%26hl%3Den%26lr%3D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google.com/imgres?imgurl=http://offices.colgate.edu/chemmgt/images/gascylinders1.jpg&amp;imgrefurl=http://offices.colgate.edu/chemmgt/picturegallery.htm&amp;h=480&amp;w=640&amp;sz=32&amp;hl=en&amp;start=13&amp;tbnid=7kEDXWSgmm0Q0M:&amp;tbnh=103&amp;tbnw=137&amp;prev=/images%3Fq%3Dgas%2Bcylinder%26svnum%3D10%26hl%3Den%26lr%3D%26sa%3DX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m/imgres?imgurl=http://www.microbiol.unimelb.edu.au/staff/ehs/hazdiamonds.images/corrosive.gif&amp;imgrefurl=http://www.microbiol.unimelb.edu.au/staff/ehs/hazdiamonds.html&amp;h=211&amp;w=210&amp;sz=13&amp;hl=en&amp;sig2=VscSB2kzDMlu7JZWtTHP5w&amp;start=6&amp;tbnid=9nMROHk6-OdllM:&amp;tbnh=106&amp;tbnw=105&amp;ei=BP6kRfxvv8aLAfOEmfwF&amp;prev=/images%3Fq%3Dchemical%2Bhazard%26svnum%3D10%26hl%3Den%26lr%3D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google.com/imgres?imgurl=http://images.encarta.msn.com/xrefmedia/sharemed/targets/images/pho/t014/T014510A.jpg&amp;imgrefurl=http://encarta.msn.com/media_461517901_761563758_-1_1/Liquid_Nitrogen.html&amp;h=336&amp;w=500&amp;sz=19&amp;hl=en&amp;start=4&amp;tbnid=12tTu4JRrYuoCM:&amp;tbnh=87&amp;tbnw=130&amp;prev=/images%3Fq%3Dliquid%2Bnitrogen%26svnum%3D10%26hl%3Den%26lr%3D" TargetMode="External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az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109-0979_IMG"/>
          <p:cNvPicPr/>
          <p:nvPr/>
        </p:nvPicPr>
        <p:blipFill>
          <a:blip r:embed="rId1"/>
          <a:stretch/>
        </p:blipFill>
        <p:spPr>
          <a:xfrm>
            <a:off x="3505320" y="182880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&gt;12.5 or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aterial that will corrode steel at a rate of 0.25 in.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visible destruction of liv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oxygenlabel"/>
          <p:cNvPicPr/>
          <p:nvPr/>
        </p:nvPicPr>
        <p:blipFill>
          <a:blip r:embed="rId1"/>
          <a:stretch/>
        </p:blipFill>
        <p:spPr>
          <a:xfrm>
            <a:off x="3657600" y="1752480"/>
            <a:ext cx="3008160" cy="4876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initiates or promotes combustion in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that may, generally by yielding oxygen, cause or enhance the combustion of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ower the ignition temperature and flash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oxic-chemical"/>
          <p:cNvPicPr/>
          <p:nvPr/>
        </p:nvPicPr>
        <p:blipFill>
          <a:blip r:embed="rId1"/>
          <a:stretch/>
        </p:blipFill>
        <p:spPr>
          <a:xfrm>
            <a:off x="3429000" y="1981080"/>
            <a:ext cx="34686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50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oxics below 5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reacts with water to release gas that is either flammable or presents a health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- 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/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OSH pocke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ottl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IMG_0066_13_1"/>
          <p:cNvPicPr/>
          <p:nvPr/>
        </p:nvPicPr>
        <p:blipFill>
          <a:blip r:embed="rId1"/>
          <a:stretch/>
        </p:blipFill>
        <p:spPr>
          <a:xfrm>
            <a:off x="2438280" y="1981080"/>
            <a:ext cx="5257800" cy="3944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n……and……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iosafety photo"/>
          <p:cNvPicPr/>
          <p:nvPr/>
        </p:nvPicPr>
        <p:blipFill>
          <a:blip r:embed="rId1"/>
          <a:stretch/>
        </p:blipFill>
        <p:spPr>
          <a:xfrm>
            <a:off x="4038480" y="2895480"/>
            <a:ext cx="3962520" cy="28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FPA Diam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3886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ections colored blue, red, yellow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s are rated on a scale of 5, 4 being 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for fire fighters and emergency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area used for spec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[Hazard Diamond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5120"/>
            <a:ext cx="1855800" cy="185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Symb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7359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ndicates that the material is 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orrosive mate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ha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n alkaline material, also called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se caustic materials have a pH great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 material that is corrosive (it could be either an acid or a ba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another symbol used for corros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kull and crossbones is used to denote a poison or highly toxic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active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an explosive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rrosive, hand burned by acid"/>
          <p:cNvPicPr/>
          <p:nvPr/>
        </p:nvPicPr>
        <p:blipFill>
          <a:blip r:embed="rId5"/>
          <a:stretch/>
        </p:blipFill>
        <p:spPr>
          <a:xfrm>
            <a:off x="1905120" y="3429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oison, skull and crossbones"/>
          <p:cNvPicPr/>
          <p:nvPr/>
        </p:nvPicPr>
        <p:blipFill>
          <a:blip r:embed="rId6"/>
          <a:stretch/>
        </p:blipFill>
        <p:spPr>
          <a:xfrm>
            <a:off x="1905120" y="426708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Radioactive"/>
          <p:cNvPicPr/>
          <p:nvPr/>
        </p:nvPicPr>
        <p:blipFill>
          <a:blip r:embed="rId7"/>
          <a:stretch/>
        </p:blipFill>
        <p:spPr>
          <a:xfrm>
            <a:off x="1905120" y="510552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Explosive"/>
          <p:cNvPicPr/>
          <p:nvPr/>
        </p:nvPicPr>
        <p:blipFill>
          <a:blip r:embed="rId8"/>
          <a:stretch/>
        </p:blipFill>
        <p:spPr>
          <a:xfrm>
            <a:off x="1905120" y="594360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7760" y="609588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MSDS for the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G_0198_1_1"/>
          <p:cNvPicPr/>
          <p:nvPr/>
        </p:nvPicPr>
        <p:blipFill>
          <a:blip r:embed="rId1"/>
          <a:stretch/>
        </p:blipFill>
        <p:spPr>
          <a:xfrm>
            <a:off x="2590920" y="1905120"/>
            <a:ext cx="5560920" cy="4170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Health and 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IMG_5206_7_1"/>
          <p:cNvPicPr/>
          <p:nvPr/>
        </p:nvPicPr>
        <p:blipFill>
          <a:blip r:embed="rId1"/>
          <a:stretch/>
        </p:blipFill>
        <p:spPr>
          <a:xfrm>
            <a:off x="1905120" y="19810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69040" y="1981080"/>
            <a:ext cx="373680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-0165_IMG"/>
          <p:cNvPicPr/>
          <p:nvPr/>
        </p:nvPicPr>
        <p:blipFill>
          <a:blip r:embed="rId1"/>
          <a:stretch/>
        </p:blipFill>
        <p:spPr>
          <a:xfrm>
            <a:off x="3657600" y="213372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Aldrich"/>
          <p:cNvPicPr/>
          <p:nvPr/>
        </p:nvPicPr>
        <p:blipFill>
          <a:blip r:embed="rId2"/>
          <a:stretch/>
        </p:blipFill>
        <p:spPr>
          <a:xfrm>
            <a:off x="1371600" y="3581280"/>
            <a:ext cx="243828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7760" y="6210000"/>
            <a:ext cx="762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igma"/>
          <p:cNvPicPr/>
          <p:nvPr/>
        </p:nvPicPr>
        <p:blipFill>
          <a:blip r:embed="rId3"/>
          <a:stretch/>
        </p:blipFill>
        <p:spPr>
          <a:xfrm>
            <a:off x="1752480" y="2057400"/>
            <a:ext cx="1981440" cy="476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upelco1"/>
          <p:cNvPicPr/>
          <p:nvPr/>
        </p:nvPicPr>
        <p:blipFill>
          <a:blip r:embed="rId4"/>
          <a:stretch/>
        </p:blipFill>
        <p:spPr>
          <a:xfrm>
            <a:off x="6248520" y="3352680"/>
            <a:ext cx="190476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1_c1"/>
          <p:cNvPicPr/>
          <p:nvPr/>
        </p:nvPicPr>
        <p:blipFill>
          <a:blip r:embed="rId5"/>
          <a:srcRect l="14014" t="0" r="49062" b="9599"/>
          <a:stretch/>
        </p:blipFill>
        <p:spPr>
          <a:xfrm>
            <a:off x="7315200" y="236232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Mallinckrodt logo"/>
          <p:cNvPicPr/>
          <p:nvPr/>
        </p:nvPicPr>
        <p:blipFill>
          <a:blip r:embed="rId6"/>
          <a:stretch/>
        </p:blipFill>
        <p:spPr>
          <a:xfrm>
            <a:off x="6248520" y="4191120"/>
            <a:ext cx="2361960" cy="54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header_left"/>
          <p:cNvPicPr/>
          <p:nvPr/>
        </p:nvPicPr>
        <p:blipFill>
          <a:blip r:embed="rId7"/>
          <a:stretch/>
        </p:blipFill>
        <p:spPr>
          <a:xfrm>
            <a:off x="5334120" y="1981080"/>
            <a:ext cx="1733400" cy="75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biorad_logo"/>
          <p:cNvPicPr/>
          <p:nvPr/>
        </p:nvPicPr>
        <p:blipFill>
          <a:blip r:embed="rId8"/>
          <a:srcRect l="0" t="0" r="0" b="24008"/>
          <a:stretch/>
        </p:blipFill>
        <p:spPr>
          <a:xfrm>
            <a:off x="6019920" y="5181480"/>
            <a:ext cx="1981080" cy="61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Oxoid - Dedicated to Microbiology"/>
          <p:cNvPicPr/>
          <p:nvPr/>
        </p:nvPicPr>
        <p:blipFill>
          <a:blip r:embed="rId9"/>
          <a:srcRect l="12799" t="0" r="12799" b="30976"/>
          <a:stretch/>
        </p:blipFill>
        <p:spPr>
          <a:xfrm>
            <a:off x="1981080" y="510552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58672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fume 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IMG_0201_4_1"/>
          <p:cNvPicPr/>
          <p:nvPr/>
        </p:nvPicPr>
        <p:blipFill>
          <a:blip r:embed="rId1"/>
          <a:stretch/>
        </p:blipFill>
        <p:spPr>
          <a:xfrm>
            <a:off x="2666880" y="19051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_0208_11_1"/>
          <p:cNvPicPr/>
          <p:nvPr/>
        </p:nvPicPr>
        <p:blipFill>
          <a:blip r:embed="rId1"/>
          <a:stretch/>
        </p:blipFill>
        <p:spPr>
          <a:xfrm>
            <a:off x="3657600" y="2514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55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r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G_0202_5_1"/>
          <p:cNvPicPr/>
          <p:nvPr/>
        </p:nvPicPr>
        <p:blipFill>
          <a:blip r:embed="rId1"/>
          <a:stretch/>
        </p:blipFill>
        <p:spPr>
          <a:xfrm>
            <a:off x="2895480" y="262908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IMG_0209_12_1"/>
          <p:cNvPicPr/>
          <p:nvPr/>
        </p:nvPicPr>
        <p:blipFill>
          <a:blip r:embed="rId1"/>
          <a:stretch/>
        </p:blipFill>
        <p:spPr>
          <a:xfrm>
            <a:off x="3429000" y="1981080"/>
            <a:ext cx="34862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G_0205_8_1"/>
          <p:cNvPicPr/>
          <p:nvPr/>
        </p:nvPicPr>
        <p:blipFill>
          <a:blip r:embed="rId1"/>
          <a:stretch/>
        </p:blipFill>
        <p:spPr>
          <a:xfrm>
            <a:off x="220968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we learn to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identify and control workplac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boratory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sure Control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of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ygiene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ul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IMG_0008_2_8_1"/>
          <p:cNvPicPr/>
          <p:nvPr/>
        </p:nvPicPr>
        <p:blipFill>
          <a:blip r:embed="rId1"/>
          <a:stretch/>
        </p:blipFill>
        <p:spPr>
          <a:xfrm>
            <a:off x="1600200" y="19051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ron"/>
          <p:cNvPicPr/>
          <p:nvPr/>
        </p:nvPicPr>
        <p:blipFill>
          <a:blip r:embed="rId2"/>
          <a:stretch/>
        </p:blipFill>
        <p:spPr>
          <a:xfrm>
            <a:off x="6324480" y="1905120"/>
            <a:ext cx="268452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MG_5216_17_1"/>
          <p:cNvPicPr/>
          <p:nvPr/>
        </p:nvPicPr>
        <p:blipFill>
          <a:blip r:embed="rId3"/>
          <a:stretch/>
        </p:blipFill>
        <p:spPr>
          <a:xfrm>
            <a:off x="3733920" y="31240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6750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process before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oregonstate.edu/research/1old/News/04sumnew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429000"/>
            <a:ext cx="12477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www.teachnet.ie/dkeenahan/2004/page41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8098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NFPA_Diamond"/>
          <p:cNvPicPr/>
          <p:nvPr/>
        </p:nvPicPr>
        <p:blipFill>
          <a:blip r:embed="rId5"/>
          <a:stretch/>
        </p:blipFill>
        <p:spPr>
          <a:xfrm>
            <a:off x="4038480" y="3429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globe_needle_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58128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enzen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57800" y="4952880"/>
            <a:ext cx="1057320" cy="10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goodman_night_bur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19520" y="5029200"/>
            <a:ext cx="10382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tripping-7290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96080" y="3124080"/>
            <a:ext cx="11811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gascylinders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43800" y="5486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corrosiv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00800" y="4876920"/>
            <a:ext cx="1000080" cy="100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T014510A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2971800"/>
            <a:ext cx="123840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6"/>
          <p:cNvSpPr/>
          <p:nvPr/>
        </p:nvSpPr>
        <p:spPr>
          <a:xfrm rot="16200000">
            <a:off x="-166680" y="16131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going or exist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Hazardou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224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109-0983_IMG"/>
          <p:cNvPicPr/>
          <p:nvPr/>
        </p:nvPicPr>
        <p:blipFill>
          <a:blip r:embed="rId1"/>
          <a:stretch/>
        </p:blipFill>
        <p:spPr>
          <a:xfrm>
            <a:off x="2057400" y="1752480"/>
            <a:ext cx="6442200" cy="48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 (OSH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point below 2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combus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 range greater than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through friction, absorption of moisture, spontaneous chemical change, or readily burns at greater than 1/10 in.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6:02:02Z</dcterms:created>
  <dc:creator>State of Mn</dc:creator>
  <dc:description/>
  <dc:language>en-US</dc:language>
  <cp:lastModifiedBy>cabir soft</cp:lastModifiedBy>
  <dcterms:modified xsi:type="dcterms:W3CDTF">2011-02-16T06:37:01Z</dcterms:modified>
  <cp:revision>53</cp:revision>
  <dc:subject/>
  <dc:title>Title of slide show</dc:title>
</cp:coreProperties>
</file>